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F82-AADD-4573-A892-1BF4D48A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0AA-7A1D-4FC7-A3EA-5F6156CC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E9FCC-8059-45FC-8C6B-4CBED15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BB13-3EC2-4A8D-A6AC-9E68C709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9433F-DEC3-4938-8AFD-0E2B953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180CA-3F59-4402-9B23-802CB28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D6D63-B99C-4067-A6E6-90D686A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FD34A-2E89-4586-8D13-22132D6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27066-E5AA-4DA2-95CD-8622A2C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9B65D-9D6D-402F-9F1B-4BEC2143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8D7B-AA8F-4A79-9FB5-A3D1B0B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C7F4-5370-4579-94D3-DED2AFC5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4EE-2A4B-4AA7-9F93-3FB391EC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04971-FE7A-4BFC-A93F-70DC1341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87F27-1BEE-4F54-8630-29C9004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5D65-7F87-42E3-A75A-F9E3F8F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E06AE-2AA5-4F1A-9643-A7A7E006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550A9-966E-44EE-8352-EBFB0F77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ADF07-F488-42B0-B3CB-5641401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0AB38-AD0E-4900-974F-16C3FB21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8BFB-AA6E-414C-83E9-AB2556E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61562-E2BC-46BB-8D07-FA8E6D63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7421-58D6-4740-BC72-B5120220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5BB-D2CE-4F44-970C-F748C30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E7075-A227-42E0-90FE-BD81B4C0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7223B-AB99-4192-8E67-1F1AB8E9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C8D16-1155-4CD5-84AD-30138F9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84E91-4759-4952-9231-AF56CD2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34DEF-84FA-40FE-807C-68996E4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C8D0E-58C9-47F3-A98B-141B2145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65E6D-C5B1-46CF-8142-87D9609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8919-9F5A-4841-B779-F2F21FF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77456-9D35-4705-BADB-C139581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DE62E-F6E0-4F99-8C56-8259AB2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4723-4EF3-4B6D-B996-DF291A8D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C68E3-A84D-4D93-AF62-6C3E411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7DDE-112D-4BF5-A966-064FD2ED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2C00-AE75-4AB1-A160-3638C73C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710DB-DC91-4FA9-B319-AB3F4845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B2B9-248F-4220-BA98-15324B8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6FA04-BB87-41DA-B157-A8C049C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18944-9353-4B86-A096-99E48C3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B1B74-4A3E-4D3A-8BC7-EEC0EECC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803D-9490-464F-BB36-C560A300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9FD8F-6EF1-46AA-8F62-34DD273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A8A-CA78-42EE-A632-E203D86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FC744-72FA-4EF8-ABF6-8850249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572E7-047F-41D5-A60D-42AD6E9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20B96-DD57-432E-87E1-4CFDC3A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55A14-BBF9-4CEE-917E-BF367C48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FC348-44B3-4984-9194-CF6ECBF8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C53E0-D250-44EB-9B28-C08F64E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7D5F3-6D4F-42AA-A2E0-6AE0206F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4B499-C28A-4A73-A4DF-6EC6E18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4250B-A343-4531-A6E3-5205AFF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D8DF3-03F2-4E07-9B11-98425E1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654B-3891-4BBC-8C07-FC324F0E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69E94-8800-41BC-ABC7-AF0C0F9A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7938E-FF99-40FF-9C36-DD3E978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75D67-E530-4061-AF3C-B53FD3D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BCD0B-0C58-4E4F-8E3A-FF0F69D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F8F29-6F7E-4EA9-B37F-3A0A7948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2B563-7E1C-4279-8AE5-130B3988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01C1B-C4F1-46A0-8E69-F3310C3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15DAA-B84E-4907-B12E-8662CC24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45E90-1B1F-47C0-ADCC-9EA8ED9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1AA0C-ECDD-49B9-A1A9-11A99D7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6F9-BBD4-4C26-9180-017BD97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4A20F-3A97-4590-B3F5-510AFB38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80ECD-B059-45FC-9D32-C625800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CF729-DAA5-4E3B-B25F-F0D916B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069BC-B77C-442D-BCD7-6D489C2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C4341-5273-47CF-8A2C-766ACCF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4A651-B488-457A-BEB5-8607EF9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58216-C795-4B0C-B3B9-8D1CFB75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ECEC4-BF16-4C8C-B19E-1C4603F0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C2759-E9AA-47B1-A564-5DCE3996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3A468-E962-49C0-97E1-5402565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68C4-EC33-4B5E-84C1-1C433D70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8F42B-6175-437E-AFF3-C3C93BE1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A85D9-B481-4DB7-A901-DF3EAF98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DB445-BC59-4B43-B523-F9CF5D5D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15E8A-1E42-4F41-AA0F-24C0EA2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1DDE8-8D34-4BA9-9233-67DBAAA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BD64B-8388-4186-A89F-FF6E975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15299-3475-4730-B5BF-1443297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21C06-A30E-4A32-BFF0-05C910F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DD7CA-4BD2-4A3C-AF1B-A469656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1BEA8-C19B-4001-A86F-24545C92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861-E6DA-44E5-AA8D-6BD7E8C3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70B5B-6851-42B3-817F-5FAA5830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25D9D-E230-40B4-B2A0-A84809EB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89BB6-D9BF-49E3-A397-2221BDE0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B4784-66CD-4D95-BADC-B1A2138D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144AD-EC1A-4E6C-9072-DA507516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E965F-E255-4E1C-A83C-7DB5DE2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0D234-2FAF-42DC-AC7C-A72B694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4C693-7F10-440E-85B0-2107F77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7ED89-2B89-402A-9F63-96C011BA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B8E96-4BB6-4EDA-97BF-DD35E4C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BAB1-1BB2-4B08-90C9-A754768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A1C3E-9DE8-4AEB-AE88-3F6DE77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8D5BA-C9A9-45D9-99C7-B0E442A8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F75B3-1DE9-4C73-99CC-C8BBE680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68D8E-C398-4098-981A-482C4927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A507D-7DA9-49A3-A744-FD94CE3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DF962-8B75-4A6C-89A8-59C9FC5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1AD48-B6E3-4F44-91B8-9042386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0F0DA-E183-4887-A519-2269D34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C47B6-4581-434B-AD0D-EF1287A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2615B-9B75-422B-B63B-B357EE2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4D9-749A-4CF6-B522-C2398DBB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F62-F921-4498-9B9C-FD722A82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65483-D96B-41B0-873F-54B7B67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5C043-FDCE-4DA7-BAB8-71F8907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3C75C-7792-4F52-A8F3-E1467CD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89506-0734-4F97-9AEC-ECA1178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73C7C-6CC2-4345-8B1D-505D65E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2F960-43E2-495A-A035-4C7D9B6B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BAA4F-F752-456D-BAFC-4426D29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C21D5-CBB6-427B-840B-03E3240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426C2-F2D8-4CEB-A09C-3714328C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DF15F-0F77-4308-AA29-8A9D056F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542F-F0A0-40C1-B3F1-8FD5910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D6BBC-1D4D-4680-868E-DBFEF86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BAB57-A847-4B73-8022-CF05C12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BB6D8-D2EA-411B-AE08-6A66BB8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3C64F-7C43-4CFD-88D1-017F99F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837A5-DD85-43B2-90AE-1709DBF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C7ECC-5BDB-4743-B89F-2D6C664F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38DAC-B549-4B6E-8D3F-AD0A9AE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775D1-6090-4F24-B872-437F2265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FE541-5570-403F-BE59-B5A35954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84309-31F3-4DE4-8F7D-ED426763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53E8-E9AD-43C7-8B5E-353DF5C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8B5C6-209D-41D9-A01E-F7A19D6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5CC4B-4F1A-4CFD-AAD9-9B547A5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D250B-974B-481F-8723-4DA330D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F4CAE-2C95-4407-80B5-5048297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973A2-6A8D-462B-999A-87257C2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6B2C9-29FA-4C81-900B-7A74D77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C04560-F8CA-4876-8229-5B00AD0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D2102-E224-4FA7-9B4E-5442612D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C6DAE-FF92-4172-B14B-AEEED73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1A487-0E56-4EAF-AAFE-CFEB6B17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1A7C-B81A-467F-A965-03F04D7E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AE672-5C4F-45C8-8DF2-A071604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E6429-205B-47A5-8ACA-7400FAB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9F3FA-B96A-4758-AEEA-ABB90DC4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FD1F1-646D-4DCD-8D0E-4175D72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BB4B9-6132-4CBD-8728-433923DA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F173A-B636-48DA-918F-8FA6FB0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3EC4C-DD9F-4CEB-B696-27A4AD1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BF72F-2C34-47BC-9E5C-CDCC2E3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076BB-39FA-4448-B167-84EF253A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C5245-DF5C-407F-A1A8-26F8F60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008-E079-44AE-9F7F-790095B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A462A-A00B-4A5B-83E4-34C30D3B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52AD3-84AE-4F83-BAF6-27A7C3C8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E683B-7B55-45EC-94C2-3A37588D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E3B7D-A853-4B58-B4C0-01CC82AC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DA331-98A1-46F0-806C-DFC1A07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EC9FE-230F-49C4-93EA-0BDAD34E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29007-A687-4B17-8BDE-771428F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35163-787B-4B86-9F6D-C9D7B81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7B358-F7C9-4703-81D8-7C51AFD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152F0-D3E1-46F8-A601-E358F34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E7F6-C8C5-448E-89F6-19B0FCD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4CDA5-1339-4AC1-9115-A199FE1C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9615B-0116-41ED-B3F5-1E79C66D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9792B-3E31-42D0-89A2-C69B4D07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1839-F029-468F-A9FC-41E0591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1494E-EB9A-44FA-8F71-9E1F810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7BF4-9AB2-44F8-8C09-8DF7769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EE4D-9400-4596-B292-E5264D14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C7A-C64D-416C-B62F-AC99867C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1B10-BC2E-4FA9-9693-D83544C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F32C-C5F9-4174-A7C4-F07FCA4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539E-AEF3-44D8-A816-8F24BF2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6483-C5E5-474A-8D07-D2CB626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6728-149A-4E62-8EF2-F581E976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61CA-B000-4DBA-AA1E-0FB5A036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6879-70AF-47C2-99CE-9706F493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6F28-7C30-4898-B414-66668833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2B2A-56E1-4DF4-9DB4-D1CCFFC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AF0A-4B79-4E39-B24F-49D7922C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B0A-9C22-41CC-B9B2-65D9070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DE1D-DB0F-46B0-971A-6523C14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56C1-61E3-47A2-A09C-E0E471A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35F3-8AF1-4999-985E-37CF7FD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B217-1E4A-43A7-907B-A842A40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499A-50C5-44F2-98B1-A54384C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A085-CEF3-47EE-AF37-3D00318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EC37-5C13-4A3E-846C-F14D643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7330-5C89-4F85-A4D7-3D59BC97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86F3-79C1-46DF-B7EB-974C2BB3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332C4-1139-408F-91E4-D3AE0675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8E1-411C-4F3D-8539-A3729F6D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7CF0-F7BA-483E-A7C2-565899A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23E4-8241-48FF-90A1-4C6B0918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2B40-D62D-4281-936D-06FC750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3AA0-4D8B-4DE2-9F13-7972D00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3A0F-3BFA-41F3-ACD6-29F69B6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2323-77B1-4E97-BD14-FBB99F2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9E98-AED4-4CC1-9D2D-D4DA88B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74B4-03F8-4552-87A0-1659035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19AFD-2968-4335-A88C-AAC62E1E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59ED-5586-4A6D-929B-6AB4BAA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DC-2676-420A-BAD0-EE914A0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4400-40FE-4EAC-95E2-90BF6614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A1765-1BF8-40EA-8A92-236CAAD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8481-926E-4839-99BA-13ECF5E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F674-5D31-48C6-B280-B4FE4EB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A713-8331-424B-BD2E-9D408668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D4B5-F8A8-4F92-B98F-21E84EA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6002-2A2A-4D06-85EA-96BDC89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E761-2D24-4E68-8B76-8749AB7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697F-EAA6-4ED0-8E43-01C8954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0328-7E46-485A-A0A9-E83F223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0F8-4DDB-4F62-B171-ECB22A7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DE81-99A8-427E-91ED-AFB30316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6B65-D000-41AA-BF1D-DEC8BDD1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8B57-2BCA-4576-B5E3-D0A70B98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A66C-3BF0-4957-98FE-3F7DBFE1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4C33-9A2E-4398-A7DC-95439F5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7790-FA44-4ADD-9A0F-474EBA6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813A-EA62-4F51-8F45-C9C16A74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8519-DAC3-4FE3-B402-12A6AAD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911A6-29B7-4E9C-959A-58146C5C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95E6-7172-4C98-A98E-4D91BFE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6B0-D01F-4BF1-91AC-882E61E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21F3-1C41-49C6-A254-CC9AD09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4E24-6254-4677-AA38-25992F3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D2416-BDA4-4E6A-9914-22C3FA8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0707-300A-4B3A-B06C-F0CD44E9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2A51-C8FA-4DEF-945D-3F5A140C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2E26B-2EC6-47D9-BF65-BAB9F306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F544-8F86-46A4-96FC-A065990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C774A-929C-4DD4-B390-792BF5C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97FF-4F2B-43A2-A2E0-50C555C8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56489-9070-4EA5-B201-66ED64F4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1FE-F8EE-4EDF-A369-6482A03E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0EE6E-375A-479A-A603-21F41EA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F3D88-046D-4C12-B258-408B149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DF2B1-682A-4350-8E84-AED359F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B975-7681-40A4-9798-818F7F3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5736A-DFD2-4683-8EC1-C1136CC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F37C-4779-427E-8DD6-5AD5FBD0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2EDC-235E-4D30-A073-91E2FA74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DB04-5160-417D-AFCC-EB72BFD4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DF56-CAB1-46EE-B7C5-E31F3575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1778E-A402-4327-BA1E-E5B20B47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A47-D5CB-42BF-9CC9-09A9B30937B1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9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0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3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4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BF7-C765-4404-B6D7-02DD58E8F34F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0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1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4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5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6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Dowolny kształt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8" name="Dowolny kształt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9" name="Dowolny kształt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0" name="Dowolny kształt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1" name="Dowolny kształt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2" name="Dowolny kształt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Dowolny kształt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Dowolny kształt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5" name="Dowolny kształt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6" name="Dowolny kształt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7" name="Dowolny kształt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8" name="Dowolny kształt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9" name="Dowolny kształt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0" name="Dowolny kształt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1" name="Dowolny kształt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2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3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4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5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6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7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B31-1303-46D9-ABFA-E781CFA9EC88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AA98-49B1-472F-881A-AA84AC61A1BA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1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2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3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4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5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6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7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8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9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D85-361A-450A-A92A-4F6759218D1C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5DCD-0D67-4C1A-97A9-4FE87EA8DF46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3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4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5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6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7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8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9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0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1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2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733" name="Grupa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734" name="Łącznik prosty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35" name="Łącznik prosty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36" name="Łącznik prosty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737" name="Grupa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738" name="Łącznik prosty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39" name="Łącznik prosty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40" name="Łącznik prosty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741" name="Grupa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742" name="Łącznik prosty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43" name="Łącznik prosty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744" name="Łącznik prosty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898-5FA2-4A4F-9DEA-4D91AD887CF5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7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8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9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0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1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2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3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4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CD4-958E-43DE-9E84-AEFED34C76A5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7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8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9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0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1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2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3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4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5" name="Dowolny kształt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6" name="Dowolny kształt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7" name="Dowolny kształt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8" name="Dowolny kształt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9" name="Dowolny kształt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0" name="Dowolny kształt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1" name="Dowolny kształt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2" name="Dowolny kształt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3" name="Dowolny kształt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4" name="Dowolny kształt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5" name="Dowolny kształt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6" name="Dowolny kształt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7" name="Dowolny kształt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8" name="Dowolny kształt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9" name="Dowolny kształt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0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1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2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3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4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5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B6AE-C74F-4067-9EB1-170101E81EBB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5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4609-B315-455D-8717-E32471B4A618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9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0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1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2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3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4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5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6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7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7B36-51E4-46CF-9E50-799E14176E25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055-B4D7-49B5-BB38-41551FCCB674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F3F0-D8DB-490F-81D1-9C0A6BF5AE67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9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0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1051" name="Grupa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052" name="Łącznik prosty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53" name="Łącznik prosty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54" name="Łącznik prosty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1055" name="Grupa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1056" name="Łącznik prosty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57" name="Łącznik prosty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58" name="Łącznik prosty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1059" name="Grupa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060" name="Łącznik prosty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61" name="Łącznik prosty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1062" name="Łącznik prosty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61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62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63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A50-C74E-4715-9109-C2F201DCF620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8A1-883C-4040-8828-2189862E3FBD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D0E4-5C3F-4DAE-8484-DDF04BB8F4B5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Dowolny kształt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Dowolny kształt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Dowolny kształt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Dowolny kształt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Dowolny kształt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Dowolny kształt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Dowolny kształt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Dowolny kształt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Dowolny kształt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Dowolny kształt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Dowolny kształt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Dowolny kształt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Dowolny kształt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Dowolny kształt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Dowolny kształt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060B-2397-4956-9557-6E5314152086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6A1-9306-4ED2-A59B-D39C614308E5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1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65D5-26BB-449B-915C-734796C0155C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79E2-BF76-40BB-987C-BAB2A7361672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5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6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0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1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415" name="Grupa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16" name="Łącznik prosty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17" name="Łącznik prosty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18" name="Łącznik prosty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419" name="Grupa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20" name="Łącznik prosty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21" name="Łącznik prosty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22" name="Łącznik prosty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grpSp>
        <p:nvGrpSpPr>
          <p:cNvPr id="423" name="Grupa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24" name="Łącznik prosty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25" name="Łącznik prosty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  <p:sp>
          <p:nvSpPr>
            <p:cNvPr id="426" name="Łącznik prosty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Sans Unicode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2162-4703-4FAB-8F5C-380648B7F050}" type="slidenum">
              <a:rPr b="0" lang="pl-PL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0040" y="2000160"/>
            <a:ext cx="794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00"/>
                </a:solidFill>
                <a:latin typeface="Lucida Sans Unicode"/>
              </a:rPr>
              <a:t>Jak działa sekta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3716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c1eeff"/>
                </a:solidFill>
                <a:uFillTx/>
                <a:latin typeface="Consolas"/>
              </a:rPr>
              <a:t>Objawy psychofizycz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571680" y="17845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Euforia lub apat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Posługiwanie się żargonem grup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Brak inicjatyw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Uczucie ciągłego lęku i zagrożen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Brak uczuć i chłód emocjonaln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000"/>
                </a:solidFill>
                <a:latin typeface="Corbel"/>
              </a:rPr>
              <a:t>Gwałtowne chudnięcie, osłabieni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Corbel"/>
              </a:rPr>
              <a:t>Tylko, gdy jednocześnie występują objawy psychiczn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Corbel"/>
              </a:rPr>
              <a:t>i społeczne możemy podejrzewać o kontakt z sektą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1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2000" fill="hold"/>
                                        <p:tgtEl>
                                          <p:spTgt spid="1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214800" y="100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 u="sng">
                <a:solidFill>
                  <a:srgbClr val="ff0000"/>
                </a:solidFill>
                <a:uFillTx/>
                <a:latin typeface="Consolas"/>
              </a:rPr>
              <a:t>Pomoc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57168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u="sng">
                <a:solidFill>
                  <a:srgbClr val="ffff00"/>
                </a:solidFill>
                <a:uFillTx/>
                <a:latin typeface="Corbel"/>
              </a:rPr>
              <a:t>info@effatha.org.pl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800" spc="-1" strike="noStrike">
                <a:solidFill>
                  <a:srgbClr val="c1eeff"/>
                </a:solidFill>
                <a:latin typeface="Consolas"/>
              </a:rPr>
              <a:t>Dziękuje </a:t>
            </a:r>
            <a:br>
              <a:rPr sz="4800"/>
            </a:br>
            <a:r>
              <a:rPr b="1" lang="pl-PL" sz="4800" spc="-1" strike="noStrike">
                <a:solidFill>
                  <a:srgbClr val="c1eeff"/>
                </a:solidFill>
                <a:latin typeface="Consolas"/>
              </a:rPr>
              <a:t>za </a:t>
            </a:r>
            <a:br>
              <a:rPr sz="4800"/>
            </a:br>
            <a:r>
              <a:rPr b="1" lang="pl-PL" sz="4800" spc="-1" strike="noStrike">
                <a:solidFill>
                  <a:srgbClr val="c1eeff"/>
                </a:solidFill>
                <a:latin typeface="Consolas"/>
              </a:rPr>
              <a:t>uwagę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500040" y="2928960"/>
            <a:ext cx="65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Opracował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ks. Sławomir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Kwiatkowsk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1eeff"/>
                </a:solidFill>
                <a:latin typeface="Consolas"/>
              </a:rPr>
              <a:t>Spis treśc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1" action="ppaction://hlinksldjump"/>
              </a:rPr>
              <a:t>Strona tytułow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2" action="ppaction://hlinksldjump"/>
              </a:rPr>
              <a:t>Cechy sek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3" action="ppaction://hlinksldjump"/>
              </a:rPr>
              <a:t>Werbun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4" action="ppaction://hlinksldjump"/>
              </a:rPr>
              <a:t>Objawy zewnętrz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5" action="ppaction://hlinksldjump"/>
              </a:rPr>
              <a:t>Diet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6" action="ppaction://hlinksldjump"/>
              </a:rPr>
              <a:t>Wygląd zewnętrzn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7" action="ppaction://hlinksldjump"/>
              </a:rPr>
              <a:t>Zmiana przyzwyczaje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8" action="ppaction://hlinksldjump"/>
              </a:rPr>
              <a:t>Nowe zwyczaj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b8803"/>
                </a:solidFill>
                <a:uFillTx/>
                <a:latin typeface="Corbel"/>
                <a:hlinkClick r:id="rId9" action="ppaction://hlinksldjump"/>
              </a:rPr>
              <a:t>Objawy psychofizycz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orbel"/>
              </a:rPr>
              <a:t>Pomoc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pl-PL" sz="4800" spc="-1" strike="noStrike" u="sng">
                <a:solidFill>
                  <a:srgbClr val="ffffff"/>
                </a:solidFill>
                <a:uFillTx/>
                <a:latin typeface="Consolas"/>
              </a:rPr>
              <a:t>Cechy sekty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357200" y="1571400"/>
            <a:ext cx="640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Gorliwość misjonarsk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Przywództwo charyzmatyczn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Tylko oni mają prawdę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Nadrzędność grup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Ścisła dyscypli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Dławienie indywidualnośc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Błędy doktrynaln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Corbel"/>
              </a:rPr>
              <a:t>Techniki zniewalani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3716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c1eeff"/>
                </a:solidFill>
                <a:uFillTx/>
                <a:latin typeface="Consolas"/>
              </a:rPr>
              <a:t>Werbunek</a:t>
            </a:r>
            <a:r>
              <a:rPr b="0" lang="pl-PL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3716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Reżyserowana spontaniczność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Manipulacja prawd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Bombardowanie miłości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Imitowanie doświadczenia mistyczneg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Indoktrynac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Niszczenie dotychczasowych wartośc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	</a:t>
            </a: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i relacj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 u="sng">
                <a:solidFill>
                  <a:srgbClr val="c1eeff"/>
                </a:solidFill>
                <a:uFillTx/>
                <a:latin typeface="Consolas"/>
              </a:rPr>
              <a:t>Objawy zewnętrzne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feb80a"/>
                </a:solidFill>
                <a:uFillTx/>
                <a:latin typeface="Consolas"/>
              </a:rPr>
              <a:t>Die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56760" y="17859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rbel"/>
              </a:rPr>
              <a:t>Rezygnuje z mięsa, jajek, ryb, sera żółtego, cebuli, czosnk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rbel"/>
              </a:rPr>
              <a:t>Wegetarianizm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rbel"/>
              </a:rPr>
              <a:t>Rezygnacja, z dnia na dzień, z picia kawy, herbaty, alkoholu, kakao, napojów typu Fanta, Coca – col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rbel"/>
              </a:rPr>
              <a:t>Własne nakrycia stołow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rbel"/>
              </a:rPr>
              <a:t>Unikanie kuchni w pewne dni kobiet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643120" y="571680"/>
            <a:ext cx="385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 u="sng">
                <a:solidFill>
                  <a:srgbClr val="c1eeff"/>
                </a:solidFill>
                <a:uFillTx/>
                <a:latin typeface="Consolas"/>
              </a:rPr>
              <a:t>Wygląd zewnętrzn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4296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rbel"/>
              </a:rPr>
              <a:t>Całkowita zmiana ubioru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rbel"/>
              </a:rPr>
              <a:t>Przesadna dbałość o higienę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rbel"/>
              </a:rPr>
              <a:t>Zmiana fryzury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orbel"/>
              </a:rPr>
              <a:t>Noszenie amuletów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2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3716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c1eeff"/>
                </a:solidFill>
                <a:uFillTx/>
                <a:latin typeface="Consolas"/>
              </a:rPr>
              <a:t>Zmiana przyzwyczajeń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71424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orbel"/>
              </a:rPr>
              <a:t>Rezygnacja z oglądania TV, słuchania radia, słuchania muzyki rozrywkowej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orbel"/>
              </a:rPr>
              <a:t>Rezygnacja z dotychczasowych form spędzania wolnego czasu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orbel"/>
              </a:rPr>
              <a:t>Rezygnacja z dotychczasowych znajomośc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ffff00"/>
                </a:solidFill>
                <a:uFillTx/>
                <a:latin typeface="Consolas"/>
              </a:rPr>
              <a:t>Nowe zwycza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Ożywiona korespondencja listowna lub internetow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Dziwni nowi znajo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Znikanie z dom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Nie wracanie na noc do dom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Problemy w szko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Pożyczanie pieniędz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00"/>
                </a:solidFill>
                <a:latin typeface="Corbel"/>
              </a:rPr>
              <a:t>Kradzież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Trójkąt równoramienny 3"/>
          <p:cNvSpPr/>
          <p:nvPr/>
        </p:nvSpPr>
        <p:spPr>
          <a:xfrm>
            <a:off x="8215200" y="6000840"/>
            <a:ext cx="631800" cy="557280"/>
          </a:xfrm>
          <a:prstGeom prst="triangle">
            <a:avLst>
              <a:gd name="adj" fmla="val 48634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1:29:40Z</dcterms:created>
  <dc:creator>WODIP</dc:creator>
  <dc:description/>
  <dc:language>en-US</dc:language>
  <cp:lastModifiedBy>Kwiatek</cp:lastModifiedBy>
  <dcterms:modified xsi:type="dcterms:W3CDTF">2009-05-25T16:51:28Z</dcterms:modified>
  <cp:revision>46</cp:revision>
  <dc:subject/>
  <dc:title>Dlaczego sekta jest zła?</dc:title>
</cp:coreProperties>
</file>